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75E-712F-4EB4-82F8-544D9CC8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EE1-E65D-493C-8590-B4C5FD9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A92-F92C-4CCB-BF8A-3DD6C6F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C8C-1BFF-4356-949D-7290CF4B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3C5-F2B3-4EEC-BF58-8094D7A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C57A-A7E6-4070-BB9B-707A429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673C-7F47-4167-98E3-F0A91A80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7E64-271E-4EE4-BBFC-E510A05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018F-E003-46F0-A4FE-66BC28FD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3E1E-813E-43F4-9459-21C67AD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C96-3FD4-4A9E-8ABC-A57F537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1B0-DF30-4CF9-B7CB-AEF45FA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BC0C-07B0-40B3-A52A-9D3CB4C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F86-42D1-4C2D-B72C-BF6010E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F1BA-CBC3-4E21-9BA9-C1EF228F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AB07-ADA0-4E4A-9CDE-259A05D3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F2C9-3C34-4BE3-BD2E-4B6DFA1D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1A0-DD68-443B-AB49-05730D1C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0D2-87C2-4B6B-8A4E-5B10DB8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3D5-7FC7-46B8-94E0-E7061BC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AC1-164D-4AA2-A347-96D0C7A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EE8-6D4E-409E-A80E-C5A51A7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97E-C871-4E60-AFE1-2E227100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8A8-498F-4459-9CAB-AFA709A9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75D-B109-450B-AEBC-BCF1FE6EB0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74A-0EB8-407E-A6AD-04C4C28728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УНИТАРНОЕ ПРЕДПРИЯТ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ЮЖНЫЙ ЦЕНТР СПОРТИВНОЙ ПОДГОТОВКИ»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-18.09.2011 г.                           г. Сочи ст. «ФГУП ЮГСПОРТ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74040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. Целебриц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олов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менедж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менедж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оцед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1-09-17T13:25:22Z</cp:lastPrinted>
  <dcterms:modified xsi:type="dcterms:W3CDTF">2011-09-17T13:28:16Z</dcterms:modified>
  <cp:revision>1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